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A78-D497-45A3-976E-BB6D5E03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E64-DDDA-4493-A513-CC6F201B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C85-2495-450D-87E7-01D7DF6B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C53-ECC3-4C85-9064-38C2133E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DF6-934C-49D7-A6F2-9FC628AD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7FE-349F-4275-8920-B8ADAF4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B2C-8E4B-4693-AFFD-21D45915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DBB-28D2-4446-B218-D4B0B117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923-372A-4514-98F8-1B58D3D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BB7-C6FB-43F6-963E-F2A701CA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99B-44FA-41E8-8005-852F1488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449-DEDB-453F-BF92-4D04422F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:\Documents and Settings\walterl\My Documents\My Pictures\Microsoft Clip Organizer\j0438794.jpg"/>
          <p:cNvPicPr/>
          <p:nvPr/>
        </p:nvPicPr>
        <p:blipFill>
          <a:blip r:embed="rId2"/>
          <a:srcRect l="10370" t="0" r="0" b="6251"/>
          <a:stretch/>
        </p:blipFill>
        <p:spPr>
          <a:xfrm>
            <a:off x="0" y="4071960"/>
            <a:ext cx="1606680" cy="2786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walterl\My Documents\My Pictures\Microsoft Clip Organizer\j0438794.jpg"/>
          <p:cNvPicPr/>
          <p:nvPr/>
        </p:nvPicPr>
        <p:blipFill>
          <a:blip r:embed="rId3"/>
          <a:srcRect l="10359" t="0" r="0" b="0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Candara"/>
              </a:rPr>
              <a:t>Click to edit the title text format</a:t>
            </a:r>
            <a:endParaRPr b="1" lang="en-US" sz="44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Click to edit the outline text format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econd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Third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Four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Fif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ix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ndara"/>
              </a:rPr>
              <a:t>Seventh Outline Level</a:t>
            </a:r>
            <a:endParaRPr b="1" lang="en-US" sz="32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6228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6228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267-43C8-498E-81CC-3F4B5B6658E7}" type="slidenum">
              <a:rPr b="0" lang="en-US" sz="1200" spc="-1" strike="noStrike">
                <a:solidFill>
                  <a:srgbClr val="4f6228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77933c"/>
                </a:solidFill>
                <a:latin typeface="Candara"/>
              </a:rPr>
              <a:t>                </a:t>
            </a:r>
            <a:r>
              <a:rPr b="1" i="1" lang="en-US" sz="2000" spc="-1" strike="noStrike">
                <a:solidFill>
                  <a:srgbClr val="4e8c77"/>
                </a:solidFill>
                <a:latin typeface="Candara"/>
              </a:rPr>
              <a:t>Beneficiile invatarii prin proiecte</a:t>
            </a:r>
            <a:r>
              <a:rPr b="1" i="1" lang="en-US" sz="4000" spc="-1" strike="noStrike">
                <a:solidFill>
                  <a:srgbClr val="77933c"/>
                </a:solidFill>
                <a:latin typeface="Candara"/>
              </a:rPr>
              <a:t> </a:t>
            </a:r>
            <a:endParaRPr b="1" lang="en-US" sz="4000" spc="-1" strike="noStrike">
              <a:solidFill>
                <a:srgbClr val="77933c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696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03c5"/>
                </a:solidFill>
                <a:latin typeface="Candar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4e8c77"/>
                </a:solidFill>
                <a:latin typeface="Candara"/>
              </a:rPr>
              <a:t>ProiectuL  </a:t>
            </a:r>
            <a:r>
              <a:rPr b="1" i="1" lang="en-US" sz="4000" spc="-1" strike="noStrike">
                <a:solidFill>
                  <a:srgbClr val="4e8c77"/>
                </a:solidFill>
                <a:latin typeface="Candara"/>
              </a:rPr>
              <a:t>FOOD</a:t>
            </a:r>
            <a:r>
              <a:rPr b="1" lang="en-US" sz="4000" spc="-1" strike="noStrike">
                <a:solidFill>
                  <a:srgbClr val="4e8c77"/>
                </a:solidFill>
                <a:latin typeface="Candara"/>
              </a:rPr>
              <a:t> </a:t>
            </a:r>
            <a:endParaRPr b="1" lang="en-US" sz="4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andara"/>
              </a:rPr>
              <a:t>Grup Scolar Sanitar “Vasile Voiculescu” Oradea</a:t>
            </a: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Ce beneficii aduce elevilor aceasta metoda</a:t>
            </a: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Candara"/>
              </a:rPr>
              <a:t>de invatare si evaluare ? </a:t>
            </a: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invata sa lucreze in echipa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invata sa colaboresze  si sa-si imparta sarcinile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Elevii devin constienti de propriile calitati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Abordand continuturile intr-un mod diferit, elevii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se implica si devin  responsabili de procesul lor de invatare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-332640" algn="r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Formeaza deprinderi si abilitati necesare in viata de adult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  <a:p>
            <a:pPr marL="3326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ndara"/>
              </a:rPr>
              <a:t>       </a:t>
            </a:r>
            <a:r>
              <a:rPr b="1" lang="en-US" sz="1800" spc="-1" strike="noStrike">
                <a:solidFill>
                  <a:srgbClr val="4e8c77"/>
                </a:solidFill>
                <a:latin typeface="Candara"/>
              </a:rPr>
              <a:t>Fiecare elev vine cu niste ingrediente (cunostintele, abilitatile dobandite, calitatile personale, dorinte de a realiza un proiect reusit) pe care, impreuna cu ceilalti, le adauga la “preparat”, astfel incat ca la sfarsit sa putem spune ca fiecare a (pre)gatit un fel de mancare inedit, si a invatat foarte multe din aceasta experienta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1" lang="en-US" sz="1800" spc="-1" strike="noStrike">
              <a:solidFill>
                <a:srgbClr val="77933c"/>
              </a:solidFill>
              <a:latin typeface="Candar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4776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0:14:57Z</dcterms:created>
  <dc:creator> craciun</dc:creator>
  <dc:description/>
  <cp:keywords/>
  <dc:language>en-US</dc:language>
  <cp:lastModifiedBy> craciun</cp:lastModifiedBy>
  <dcterms:modified xsi:type="dcterms:W3CDTF">2011-01-15T02:35:35Z</dcterms:modified>
  <cp:revision>4</cp:revision>
  <dc:subject/>
  <dc:title>Click to add title</dc:title>
</cp:coreProperties>
</file>